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6AA-4FAD-40A2-8B6F-19EE7113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D1D-598D-43A1-9E2D-E0E9BA1F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91D-0420-44B3-A3E6-BE817380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6D3-2D5F-4F71-A8C6-0B53A96C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D96-E082-4E3D-B972-5B23E0A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765-E4E1-4D2B-A9B8-B6BA8847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949-255C-4569-9619-55EE019C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E44-D228-40E1-8B26-6835BF2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872-1191-46BC-B53C-CA030380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7BE-9F43-4399-8A86-932BEAE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9DF-89E4-45C6-A225-794F33E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C40-CBD3-43A9-8EED-AA7E010C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1FD-6D97-48CC-AC94-527A1E4CB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C:\Users\Meredith\AppData\Local\Microsoft\Windows\Temporary Internet Files\Content.IE5\0XKSI6DM\MC900265546[1].wmf"/>
          <p:cNvPicPr/>
          <p:nvPr/>
        </p:nvPicPr>
        <p:blipFill>
          <a:blip r:embed="rId1"/>
          <a:stretch/>
        </p:blipFill>
        <p:spPr>
          <a:xfrm>
            <a:off x="3048120" y="2762280"/>
            <a:ext cx="2971800" cy="1581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C:\Users\Meredith\AppData\Local\Microsoft\Windows\Temporary Internet Files\Content.IE5\0XKSI6DM\MC900265546[1].wmf"/>
          <p:cNvPicPr/>
          <p:nvPr/>
        </p:nvPicPr>
        <p:blipFill>
          <a:blip r:embed="rId2"/>
          <a:stretch/>
        </p:blipFill>
        <p:spPr>
          <a:xfrm>
            <a:off x="5878440" y="42084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C:\Users\Meredith\AppData\Local\Microsoft\Windows\Temporary Internet Files\Content.IE5\0XKSI6DM\MC900265546[1].wmf"/>
          <p:cNvPicPr/>
          <p:nvPr/>
        </p:nvPicPr>
        <p:blipFill>
          <a:blip r:embed="rId3"/>
          <a:stretch/>
        </p:blipFill>
        <p:spPr>
          <a:xfrm>
            <a:off x="5791320" y="4114800"/>
            <a:ext cx="3276360" cy="236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Users\Meredith\AppData\Local\Microsoft\Windows\Temporary Internet Files\Content.IE5\0XKSI6DM\MC900265546[1].wmf"/>
          <p:cNvPicPr/>
          <p:nvPr/>
        </p:nvPicPr>
        <p:blipFill>
          <a:blip r:embed="rId4"/>
          <a:stretch/>
        </p:blipFill>
        <p:spPr>
          <a:xfrm>
            <a:off x="3124080" y="63972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C:\Users\Meredith\AppData\Local\Microsoft\Windows\Temporary Internet Files\Content.IE5\0XKSI6DM\MC900265546[1].wmf"/>
          <p:cNvPicPr/>
          <p:nvPr/>
        </p:nvPicPr>
        <p:blipFill>
          <a:blip r:embed="rId5"/>
          <a:stretch/>
        </p:blipFill>
        <p:spPr>
          <a:xfrm>
            <a:off x="228600" y="19810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C:\Users\Meredith\AppData\Local\Microsoft\Windows\Temporary Internet Files\Content.IE5\0XKSI6DM\MC900265546[1].wmf"/>
          <p:cNvPicPr/>
          <p:nvPr/>
        </p:nvPicPr>
        <p:blipFill>
          <a:blip r:embed="rId6"/>
          <a:stretch/>
        </p:blipFill>
        <p:spPr>
          <a:xfrm>
            <a:off x="544680" y="4559400"/>
            <a:ext cx="5257800" cy="229860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4"/>
          <p:cNvSpPr/>
          <p:nvPr/>
        </p:nvSpPr>
        <p:spPr>
          <a:xfrm flipH="1">
            <a:off x="2971440" y="2843280"/>
            <a:ext cx="304920" cy="3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9"/>
          <p:cNvSpPr/>
          <p:nvPr/>
        </p:nvSpPr>
        <p:spPr>
          <a:xfrm flipH="1" flipV="1">
            <a:off x="4381200" y="2600280"/>
            <a:ext cx="1522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3"/>
          <p:cNvSpPr/>
          <p:nvPr/>
        </p:nvSpPr>
        <p:spPr>
          <a:xfrm flipH="1">
            <a:off x="3173040" y="4343400"/>
            <a:ext cx="1360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21"/>
          <p:cNvSpPr/>
          <p:nvPr/>
        </p:nvSpPr>
        <p:spPr>
          <a:xfrm>
            <a:off x="5802480" y="4071960"/>
            <a:ext cx="1627200" cy="4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 flipV="1">
            <a:off x="5649840" y="2135160"/>
            <a:ext cx="228600" cy="78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3581280" y="30844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 DARLING"/>
              </a:rPr>
              <a:t>Visual P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685800" y="2363760"/>
            <a:ext cx="1752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tist we are studying 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>
            <a:off x="3505320" y="121140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calls his a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6324480" y="990720"/>
            <a:ext cx="213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_________ is the humorous use of a word or phrase to emphasize or suggest its different mean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0"/>
          <p:cNvSpPr/>
          <p:nvPr/>
        </p:nvSpPr>
        <p:spPr>
          <a:xfrm>
            <a:off x="6248520" y="4559400"/>
            <a:ext cx="2361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of a visual pu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043"/>
          <p:cNvSpPr/>
          <p:nvPr/>
        </p:nvSpPr>
        <p:spPr>
          <a:xfrm>
            <a:off x="1371600" y="487692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______________________ is 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work in which the figures project from a supporting background, usually a flat su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51"/>
          <p:cNvSpPr/>
          <p:nvPr/>
        </p:nvSpPr>
        <p:spPr>
          <a:xfrm>
            <a:off x="228600" y="6397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: 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00:43:48Z</dcterms:created>
  <dc:creator>Meredith</dc:creator>
  <dc:description/>
  <dc:language>en-US</dc:language>
  <cp:lastModifiedBy>kjcrumd</cp:lastModifiedBy>
  <dcterms:modified xsi:type="dcterms:W3CDTF">2010-11-08T15:03:25Z</dcterms:modified>
  <cp:revision>7</cp:revision>
  <dc:subject/>
  <dc:title>PowerPoint Presentation</dc:title>
</cp:coreProperties>
</file>